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E16-2504-4AA9-A612-12A949AD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977-C40F-4DB7-9C0C-9346FFE5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0BD-8023-4347-9AF4-1AD70492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31D-24E8-48C5-912A-8E4E1E86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B78-3456-4F6D-857B-EF385313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53C-55B5-475C-AFD7-D851E818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AFC-F06E-4076-96B1-3F11CB5B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DB9-9429-400B-BE94-3263864D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910-5488-4C38-B764-9F8B7A1C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C4A-56CB-4F15-8535-FC69EC09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CFC-8166-4F28-840D-97FAECD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9A8-3906-4607-9F39-2CD0478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C895-366A-4844-9B9F-B3270EC404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hyperlink" Target="file:///tmp/home/.config/libreoffice/4/user/gallery/&#35838;&#25991;%2053.wav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wt007a01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27640" y="3870360"/>
            <a:ext cx="41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By Ding X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Hua Luogeng Experimental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26828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nit 7 Afte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9280" y="189864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42920" y="595440"/>
            <a:ext cx="7345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你是高山，你会怎样向李老师打听王兵的下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69228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Gao Shan:  Excuse me, Miss 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278136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and Mike are in the playground, I th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6360" y="220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ss 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720" y="49878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’ll go and join them. Goodbye, Miss 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4149720"/>
            <a:ext cx="25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48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Gao Sh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8240" y="134136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Wang Bing helping you in the off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81080" y="426708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ss 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800" y="42670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haps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2520" y="217980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, he’s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18160" y="3500280"/>
            <a:ext cx="45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 they playing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6360" y="498780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Gao Sh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63440"/>
            <a:ext cx="56167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划出高山向李老师询问王兵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1125360"/>
            <a:ext cx="3095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1844640"/>
            <a:ext cx="604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4005360"/>
            <a:ext cx="439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4941720"/>
            <a:ext cx="3528720" cy="574920"/>
          </a:xfrm>
          <a:prstGeom prst="ellipse">
            <a:avLst/>
          </a:prstGeom>
          <a:solidFill>
            <a:srgbClr val="009999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1619280" y="4005360"/>
            <a:ext cx="3168720" cy="830520"/>
            <a:chOff x="1619280" y="4005360"/>
            <a:chExt cx="3168720" cy="830520"/>
          </a:xfrm>
        </p:grpSpPr>
        <p:sp>
          <p:nvSpPr>
            <p:cNvPr id="128" name=""/>
            <p:cNvSpPr/>
            <p:nvPr/>
          </p:nvSpPr>
          <p:spPr>
            <a:xfrm>
              <a:off x="1619280" y="4005360"/>
              <a:ext cx="29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’ll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 I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wi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48000" y="443700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20720" y="4869000"/>
            <a:ext cx="2087640" cy="1068840"/>
            <a:chOff x="1620720" y="4869000"/>
            <a:chExt cx="2087640" cy="1068840"/>
          </a:xfrm>
        </p:grpSpPr>
        <p:sp>
          <p:nvSpPr>
            <p:cNvPr id="131" name=""/>
            <p:cNvSpPr/>
            <p:nvPr/>
          </p:nvSpPr>
          <p:spPr>
            <a:xfrm>
              <a:off x="1620720" y="4869000"/>
              <a:ext cx="93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oi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68360" y="526392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加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084720" y="3141720"/>
            <a:ext cx="129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3068640"/>
            <a:ext cx="136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170028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ll go and joi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8813" r="65874" b="13764"/>
          <a:stretch/>
        </p:blipFill>
        <p:spPr>
          <a:xfrm>
            <a:off x="539640" y="260280"/>
            <a:ext cx="2089440" cy="3095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24360" y="1700280"/>
            <a:ext cx="1368720" cy="576360"/>
          </a:xfrm>
          <a:prstGeom prst="ellipse">
            <a:avLst/>
          </a:prstGeom>
          <a:solidFill>
            <a:srgbClr val="008000">
              <a:alpha val="46000"/>
            </a:srgbClr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700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372360" y="1195200"/>
            <a:ext cx="0" cy="4330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69228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ng Bing and M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6200" y="1557360"/>
            <a:ext cx="2522520" cy="934920"/>
          </a:xfrm>
          <a:prstGeom prst="ellipse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565360"/>
            <a:ext cx="0" cy="576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89440" y="3137040"/>
            <a:ext cx="5686200" cy="520560"/>
            <a:chOff x="2989440" y="3137040"/>
            <a:chExt cx="5686200" cy="520560"/>
          </a:xfrm>
        </p:grpSpPr>
        <p:sp>
          <p:nvSpPr>
            <p:cNvPr id="144" name=""/>
            <p:cNvSpPr/>
            <p:nvPr/>
          </p:nvSpPr>
          <p:spPr>
            <a:xfrm>
              <a:off x="2989440" y="3573360"/>
              <a:ext cx="230328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21440" y="31370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wi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27640" y="3573360"/>
              <a:ext cx="2448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627280" y="3187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lay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88000" y="321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Wang Bing and M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69228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Gao Shan:  Excuse me, Miss 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278136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He and Mike are in the playground, I th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36360" y="220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Miss 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2720" y="49878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’ll go and join them. Goodbye, Miss 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48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Gao Sh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8240" y="134136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Wang Bing helping you in the off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181080" y="426708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Miss 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5800" y="42670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erhaps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2520" y="217980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No, he’s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18160" y="3500280"/>
            <a:ext cx="45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 they playing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6360" y="498780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Gao Sh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60280"/>
            <a:ext cx="5040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Read in roles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角色朗读对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16072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755640" y="328680"/>
            <a:ext cx="7848720" cy="1876320"/>
            <a:chOff x="755640" y="328680"/>
            <a:chExt cx="7848720" cy="1876320"/>
          </a:xfrm>
        </p:grpSpPr>
        <p:sp>
          <p:nvSpPr>
            <p:cNvPr id="165" name=""/>
            <p:cNvSpPr/>
            <p:nvPr/>
          </p:nvSpPr>
          <p:spPr>
            <a:xfrm>
              <a:off x="2411280" y="2205000"/>
              <a:ext cx="302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5640" y="328680"/>
              <a:ext cx="56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Where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is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 Gao Shan go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ing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91280" y="765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高山打算去哪儿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900000" y="3645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o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2808360" cy="25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160720" cy="1866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11280" y="2205000"/>
            <a:ext cx="302580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1125360"/>
            <a:ext cx="2663640" cy="19987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195640" y="476280"/>
            <a:ext cx="4681440" cy="3744720"/>
            <a:chOff x="2195640" y="476280"/>
            <a:chExt cx="4681440" cy="3744720"/>
          </a:xfrm>
        </p:grpSpPr>
        <p:sp>
          <p:nvSpPr>
            <p:cNvPr id="175" name=""/>
            <p:cNvSpPr/>
            <p:nvPr/>
          </p:nvSpPr>
          <p:spPr>
            <a:xfrm>
              <a:off x="4356000" y="3141720"/>
              <a:ext cx="0" cy="107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5640" y="476280"/>
              <a:ext cx="46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Where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’s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Helen go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ing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195640" y="4508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o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2225880" cy="1670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50920" y="907920"/>
            <a:ext cx="2808360" cy="25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411280" y="2205000"/>
            <a:ext cx="302580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160720" cy="1866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059280" y="1125360"/>
            <a:ext cx="2663640" cy="1998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356000" y="3141720"/>
            <a:ext cx="0" cy="107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354480" y="4292640"/>
            <a:ext cx="2225520" cy="16700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3348000" y="614520"/>
            <a:ext cx="2736360" cy="728640"/>
            <a:chOff x="3348000" y="614520"/>
            <a:chExt cx="2736360" cy="728640"/>
          </a:xfrm>
        </p:grpSpPr>
        <p:sp>
          <p:nvSpPr>
            <p:cNvPr id="187" name=""/>
            <p:cNvSpPr/>
            <p:nvPr/>
          </p:nvSpPr>
          <p:spPr>
            <a:xfrm>
              <a:off x="3348000" y="614520"/>
              <a:ext cx="15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40000" y="97488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（为什么？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250920" y="907920"/>
            <a:ext cx="2808360" cy="2529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0920" y="163440"/>
            <a:ext cx="50418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Do the fast-reading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快速阅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627280" y="2997360"/>
            <a:ext cx="2305080" cy="1836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03280" y="3789360"/>
            <a:ext cx="11509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32000" y="3427560"/>
            <a:ext cx="1297080" cy="795600"/>
            <a:chOff x="1332000" y="3427560"/>
            <a:chExt cx="1297080" cy="795600"/>
          </a:xfrm>
        </p:grpSpPr>
        <p:sp>
          <p:nvSpPr>
            <p:cNvPr id="195" name=""/>
            <p:cNvSpPr/>
            <p:nvPr/>
          </p:nvSpPr>
          <p:spPr>
            <a:xfrm>
              <a:off x="1332000" y="342756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Comic Sans MS"/>
                </a:rPr>
                <a:t>At 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6360" y="3824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cc"/>
                  </a:solidFill>
                  <a:latin typeface="Arial"/>
                  <a:ea typeface="华文行楷"/>
                </a:rPr>
                <a:t>起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003640" y="3789360"/>
            <a:ext cx="11509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229440" y="3060720"/>
            <a:ext cx="2374920" cy="173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227640" y="3068640"/>
            <a:ext cx="2370240" cy="1778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2305080" cy="18586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4859280" y="3427560"/>
            <a:ext cx="1439640" cy="795600"/>
            <a:chOff x="4859280" y="3427560"/>
            <a:chExt cx="1439640" cy="795600"/>
          </a:xfrm>
        </p:grpSpPr>
        <p:sp>
          <p:nvSpPr>
            <p:cNvPr id="202" name=""/>
            <p:cNvSpPr/>
            <p:nvPr/>
          </p:nvSpPr>
          <p:spPr>
            <a:xfrm>
              <a:off x="4859280" y="342756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Comic Sans MS"/>
                </a:rPr>
                <a:t>At la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4920" y="382428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cc"/>
                  </a:solidFill>
                  <a:latin typeface="Arial"/>
                  <a:ea typeface="华文行楷"/>
                </a:rPr>
                <a:t>最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6"/>
          <a:srcRect l="32043" t="0" r="33938" b="68891"/>
          <a:stretch/>
        </p:blipFill>
        <p:spPr>
          <a:xfrm>
            <a:off x="1332000" y="1125360"/>
            <a:ext cx="1224000" cy="1206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87640" y="1700280"/>
            <a:ext cx="100800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4211640" y="98100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718920" cy="1005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627280" y="5661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（乐于助人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9"/>
          <a:srcRect l="33354" t="2827" r="33354" b="60139"/>
          <a:stretch/>
        </p:blipFill>
        <p:spPr>
          <a:xfrm>
            <a:off x="250920" y="2924280"/>
            <a:ext cx="1366920" cy="1368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8728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3236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11937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0000" y="501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55640" y="5084640"/>
            <a:ext cx="6408720" cy="581400"/>
            <a:chOff x="755640" y="5084640"/>
            <a:chExt cx="6408720" cy="581400"/>
          </a:xfrm>
        </p:grpSpPr>
        <p:sp>
          <p:nvSpPr>
            <p:cNvPr id="215" name=""/>
            <p:cNvSpPr/>
            <p:nvPr/>
          </p:nvSpPr>
          <p:spPr>
            <a:xfrm>
              <a:off x="755640" y="5084640"/>
              <a:ext cx="640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They’re         stude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1280" y="5519520"/>
              <a:ext cx="15112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42920" y="1484280"/>
            <a:ext cx="60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2602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w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708280"/>
            <a:ext cx="49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2808360" cy="2529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84360" y="1989000"/>
            <a:ext cx="287964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76720" y="1203480"/>
            <a:ext cx="2087280" cy="1938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3141720"/>
            <a:ext cx="0" cy="647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580000" y="1268280"/>
            <a:ext cx="2160720" cy="1729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484360" y="2570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Let’s imag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800280"/>
            <a:ext cx="518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发挥想象力，完成高山与杨玲之间的对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5280" y="3646440"/>
            <a:ext cx="7632720" cy="2737080"/>
            <a:chOff x="395280" y="3646440"/>
            <a:chExt cx="7632720" cy="2737080"/>
          </a:xfrm>
        </p:grpSpPr>
        <p:sp>
          <p:nvSpPr>
            <p:cNvPr id="230" name=""/>
            <p:cNvSpPr/>
            <p:nvPr/>
          </p:nvSpPr>
          <p:spPr>
            <a:xfrm>
              <a:off x="395280" y="4722480"/>
              <a:ext cx="54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Yang Ling:  I’m going to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5640" y="4194000"/>
              <a:ext cx="72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Gao Shan:  Where are you going, Yang Ling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200" y="515448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Gao Shan:  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200" y="558612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Yang Ling:   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24000" y="5802120"/>
              <a:ext cx="395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…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37080" y="364644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…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1128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15541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Write down the dialogue you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21178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写下你编的对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30654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Enjoy your after-schoo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0200" y="26305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After school, we can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62864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What can we do after school?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268360" y="836640"/>
            <a:ext cx="4104000" cy="34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Good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48428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you go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o (the) 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852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’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o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the bookshop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2200" y="333360"/>
            <a:ext cx="8210520" cy="891360"/>
            <a:chOff x="322200" y="333360"/>
            <a:chExt cx="8210520" cy="891360"/>
          </a:xfrm>
        </p:grpSpPr>
        <p:sp>
          <p:nvSpPr>
            <p:cNvPr id="54" name=""/>
            <p:cNvSpPr/>
            <p:nvPr/>
          </p:nvSpPr>
          <p:spPr>
            <a:xfrm>
              <a:off x="322200" y="333360"/>
              <a:ext cx="74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uess: Where am I going after school   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11640" y="76500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（放学后我打算去哪儿？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835280" y="38606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ke rea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263700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I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’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o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(the) …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k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4810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Wher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go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06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放学后你打算去哪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632720" cy="432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260280"/>
            <a:ext cx="59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vid is in the music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he doing? Gu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76720" y="2492280"/>
            <a:ext cx="3024000" cy="2287800"/>
            <a:chOff x="3276720" y="2492280"/>
            <a:chExt cx="3024000" cy="22878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276720" y="2492280"/>
              <a:ext cx="3024000" cy="228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 rot="257400">
              <a:off x="5005440" y="2923920"/>
              <a:ext cx="770040" cy="80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826920" y="5445000"/>
            <a:ext cx="734400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H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’s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liste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to music in the music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5373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he…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in the music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345440" cy="489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343080"/>
            <a:ext cx="5977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en is in the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she doing? Gu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5080" y="5445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she…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in the ga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8560" y="5445000"/>
            <a:ext cx="63374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ri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a bike in the ga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57440" y="1291680"/>
            <a:ext cx="2951280" cy="2424600"/>
            <a:chOff x="2557440" y="1291680"/>
            <a:chExt cx="2951280" cy="24246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557440" y="1484280"/>
              <a:ext cx="29512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rcRect l="0" t="0" r="-15789" b="12691"/>
            <a:stretch/>
          </p:blipFill>
          <p:spPr>
            <a:xfrm rot="21084000">
              <a:off x="3635280" y="1341360"/>
              <a:ext cx="72072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3430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im and his friends are in the play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are they doing? Gu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5758" t="7337" r="5758" b="8779"/>
          <a:stretch/>
        </p:blipFill>
        <p:spPr>
          <a:xfrm>
            <a:off x="612720" y="1268280"/>
            <a:ext cx="777420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1280" y="5445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they …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in the play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720" y="5516640"/>
            <a:ext cx="748836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’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play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football in the play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28796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612720" y="1557360"/>
            <a:ext cx="4174920" cy="334332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556000" y="2133720"/>
            <a:ext cx="6264000" cy="1818000"/>
            <a:chOff x="2556000" y="2133720"/>
            <a:chExt cx="6264000" cy="1818000"/>
          </a:xfrm>
        </p:grpSpPr>
        <p:sp>
          <p:nvSpPr>
            <p:cNvPr id="83" name=""/>
            <p:cNvSpPr/>
            <p:nvPr/>
          </p:nvSpPr>
          <p:spPr>
            <a:xfrm>
              <a:off x="2556000" y="2133720"/>
              <a:ext cx="62640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It is            o’clock in the       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are ov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Gao Shan                                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8440" y="2492280"/>
              <a:ext cx="106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77080" y="2492280"/>
              <a:ext cx="17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29080" y="3139920"/>
              <a:ext cx="158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297320" y="3789360"/>
              <a:ext cx="4235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03640" y="206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61080" y="20462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2920" y="2693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33415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is looking for Wang 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4581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378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行楷"/>
              </a:rPr>
              <a:t>（寻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299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行楷"/>
              </a:rPr>
              <a:t>（放学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50720"/>
            <a:ext cx="70567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Try to catch the key words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尽量抓住关键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612720" y="1557360"/>
            <a:ext cx="4174920" cy="33433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2556000" y="2133720"/>
            <a:ext cx="6264000" cy="1818000"/>
            <a:chOff x="2556000" y="2133720"/>
            <a:chExt cx="6264000" cy="1818000"/>
          </a:xfrm>
        </p:grpSpPr>
        <p:sp>
          <p:nvSpPr>
            <p:cNvPr id="99" name=""/>
            <p:cNvSpPr/>
            <p:nvPr/>
          </p:nvSpPr>
          <p:spPr>
            <a:xfrm>
              <a:off x="2556000" y="2133720"/>
              <a:ext cx="62640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It is            o’clock in the       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are ov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Gao Shan                                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38440" y="2492280"/>
              <a:ext cx="106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77080" y="2492280"/>
              <a:ext cx="17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29080" y="3139920"/>
              <a:ext cx="158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297320" y="3789360"/>
              <a:ext cx="4235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932360" y="4581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6:58:22Z</dcterms:created>
  <dc:creator>微软用户</dc:creator>
  <dc:description/>
  <dc:language>en-US</dc:language>
  <cp:lastModifiedBy>island</cp:lastModifiedBy>
  <dcterms:modified xsi:type="dcterms:W3CDTF">2010-11-19T03:15:54Z</dcterms:modified>
  <cp:revision>344</cp:revision>
  <dc:subject/>
  <dc:title>幻灯片 1</dc:title>
</cp:coreProperties>
</file>